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0DC-71DF-4FBA-8893-8F420232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BDA-87F2-4805-8907-FE518D09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476-E9F1-4BAA-A226-AB114ECA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21B-0603-48F7-87AF-FB9098A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83F-BEE1-4477-A6E8-50A7C17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2AF-F24A-41E5-9AEC-517122B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F1A-D2DA-4F29-8E32-D549C79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756-AC44-476D-ACCD-FE599F8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A4B-A443-4832-801F-85D70EF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488-F984-4829-84EC-D184EFD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9C5-2693-46E1-8F7B-CA9BCD8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6DC-2CD8-4DE3-99EA-173A51C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C34A-85ED-41E4-9329-031F3642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36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ample Present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l to Estimate Patients’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0840" y="476280"/>
            <a:ext cx="2314440" cy="5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32520" y="476280"/>
            <a:ext cx="1600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ping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6000" y="1484280"/>
          <a:ext cx="8699400" cy="46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484280"/>
                    <a:ext cx="869940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Indirect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197000"/>
          <a:ext cx="82072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207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5705280"/>
            <a:ext cx="8964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pped work due to TB: x months (n =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189000"/>
          <a:ext cx="9144000" cy="6486480"/>
        </p:xfrm>
        <a:graphic>
          <a:graphicData uri="http://schemas.openxmlformats.org/drawingml/2006/table">
            <a:tbl>
              <a:tblPr/>
              <a:tblGrid>
                <a:gridCol w="4573440"/>
                <a:gridCol w="1905120"/>
                <a:gridCol w="469800"/>
                <a:gridCol w="1052640"/>
                <a:gridCol w="1143000"/>
              </a:tblGrid>
              <a:tr h="4014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irect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-Diagnosis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ng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atment Costs (cost/visit x 14 vis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Total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direct Cost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s not working (n=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gone income (4.5 x initial mo. income in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 collection time (hours/visit x 14 vis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gone income (collection time x cur. income in 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Total 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+ Indirect Costs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% of annual individual income / % of annual househol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TB/HIV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39895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+ = %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Diagnosi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tion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0" y="1197000"/>
            <a:ext cx="4138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(+ x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(+ x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 x /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Health System and T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125360"/>
          <a:ext cx="820908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2090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Reasons for not seeking </a:t>
            </a:r>
            <a:br>
              <a:rPr sz="3900"/>
            </a:b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Government services initially: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1557360"/>
          <a:ext cx="77040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70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1511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How could TB services be improved to alleviate financial burden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949400"/>
          <a:ext cx="835164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49400"/>
                    <a:ext cx="83516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Verdana"/>
              </a:rPr>
              <a:t>Recommendations and Questi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413000"/>
            <a:ext cx="7201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ssment of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B/HI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lth syste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ient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mmendations and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961080" cy="74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Study Si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ncial c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fication 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/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ct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% of provi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ct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19700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78136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Map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4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Study Site –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oeconom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197000"/>
            <a:ext cx="763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35640" cy="367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1413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TB patients interviewed by income br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t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rect costs (pre-diagnosis, diagnosis, treat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Cop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otal direct costs  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ndirect costs (pre-diagnosis, diagnosis,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otal indirect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tal direct costs + total indirect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292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Pre-Diagnosis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15772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avg. direct cost: x currency (median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time spent: x hours (median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mber of visits: x (median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tient Delay: 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125360"/>
          <a:ext cx="8208720" cy="39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2087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50920" y="425520"/>
          <a:ext cx="8713800" cy="58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5520"/>
                    <a:ext cx="871380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93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Treatment Cos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530028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avg. direct cost/visit: x (median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turnaround time/visit: x hours (median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1197000"/>
          <a:ext cx="820872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20872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692280"/>
          <a:ext cx="878544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8:08:24Z</dcterms:created>
  <dc:creator>KNCV</dc:creator>
  <dc:description/>
  <dc:language>en-US</dc:language>
  <cp:lastModifiedBy>KNCV</cp:lastModifiedBy>
  <cp:lastPrinted>2004-03-01T08:44:00Z</cp:lastPrinted>
  <dcterms:modified xsi:type="dcterms:W3CDTF">2009-01-12T16:26:07Z</dcterms:modified>
  <cp:revision>48</cp:revision>
  <dc:subject/>
  <dc:title>  Introduction to   the Tool to Estimate Patients Costs   by Verena Mauch</dc:title>
</cp:coreProperties>
</file>