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D2E-90AD-47E5-9CBD-AE0BCA00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591-AC0F-406F-817A-31C21577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7BB-D075-4BA2-9D20-56B89B74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FA8-A75D-41EB-9AB3-60B72DA4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6FA-FAA3-4F4D-907C-73808726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288-35E1-43EE-8F8C-B7ED0847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311-9A84-4BC9-9A8A-FC710CE4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1F2-13A6-4C11-95AE-01FA5DE5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2DA-2EC6-4C4A-B268-C4CA33EA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673-4DF5-4F82-93EF-4523A69D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201-AD42-45B6-9A7C-9B64346C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351-E14B-455C-A43E-506F0566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D738-05D0-4A17-803D-FE5D918D2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36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ample Presentation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27628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l to Estimate Patients’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20840" y="476280"/>
            <a:ext cx="2314440" cy="58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32520" y="476280"/>
            <a:ext cx="16002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2920" cy="86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ping Cos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16000" y="1484280"/>
          <a:ext cx="8699400" cy="466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484280"/>
                    <a:ext cx="869940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936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Indirect Cos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197000"/>
          <a:ext cx="82072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207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5705280"/>
            <a:ext cx="8964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pped work due to TB: x months (n =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189000"/>
          <a:ext cx="9144000" cy="6486480"/>
        </p:xfrm>
        <a:graphic>
          <a:graphicData uri="http://schemas.openxmlformats.org/drawingml/2006/table">
            <a:tbl>
              <a:tblPr/>
              <a:tblGrid>
                <a:gridCol w="4573440"/>
                <a:gridCol w="1905120"/>
                <a:gridCol w="469800"/>
                <a:gridCol w="1052640"/>
                <a:gridCol w="1143000"/>
              </a:tblGrid>
              <a:tr h="4014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irect Costs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US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-Diagnosis Costs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ing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eatment Costs (cost/visit x 14 vis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-Total 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US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4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Indirect Costs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US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hs not working (n=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gone income (4.5 x initial mo. income in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g collection time (hours/visit x 14 vis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gone income (collection time x cur. income in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-Total 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US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otal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+ Indirect Costs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% of annual individual income / % of annual household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936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TB/HIV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398952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V+ = % of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-Diagnosis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tion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0" y="1197000"/>
            <a:ext cx="4138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(+ x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(+ x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n x /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2920" cy="936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Health System and TB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125360"/>
          <a:ext cx="8209080" cy="46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820908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Reasons for not seeking </a:t>
            </a:r>
            <a:br>
              <a:rPr sz="3900"/>
            </a:b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Government services initially: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1557360"/>
          <a:ext cx="770400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704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1511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How could TB services be improved to alleviate financial burden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949400"/>
          <a:ext cx="8351640" cy="45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49400"/>
                    <a:ext cx="835164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Recommendations and Question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86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413000"/>
            <a:ext cx="7201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y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essment of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rec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rec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tal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B/HI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alth system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tient p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mmendations and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3961080" cy="74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Study Sit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ncial c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ification 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/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ct cas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% of provi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ct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 =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1197000"/>
            <a:ext cx="763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278136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Map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4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Study Site –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oeconom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1197000"/>
            <a:ext cx="763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335640" cy="367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1413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TB patients interviewed by income brac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tal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rec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rect costs (pre-diagnosis, diagnosis, treat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Cop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otal direct costs   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irec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ndirect costs (pre-diagnosis, diagnosis,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otal indirect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tal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tal direct costs + total indirect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2920" cy="936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Pre-Diagnosis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515772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tal avg. direct cost: x currency (median 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tal time spent: x hours (median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umber of visits: x (median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tient Delay: x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1125360"/>
          <a:ext cx="8208720" cy="39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208720" cy="39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50920" y="425520"/>
          <a:ext cx="8713800" cy="588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5520"/>
                    <a:ext cx="871380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936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Treatment Cos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530028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avg. direct cost/visit: x (median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turnaround time/visit: x hours (median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1197000"/>
          <a:ext cx="820872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20872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9280" y="692280"/>
          <a:ext cx="878544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8:08:24Z</dcterms:created>
  <dc:creator>KNCV</dc:creator>
  <dc:description/>
  <dc:language>en-US</dc:language>
  <cp:lastModifiedBy>KNCV</cp:lastModifiedBy>
  <cp:lastPrinted>2004-03-01T08:44:00Z</cp:lastPrinted>
  <dcterms:modified xsi:type="dcterms:W3CDTF">2009-01-12T16:26:07Z</dcterms:modified>
  <cp:revision>48</cp:revision>
  <dc:subject/>
  <dc:title>  Introduction to   the Tool to Estimate Patients Costs   by Verena Mauch</dc:title>
</cp:coreProperties>
</file>